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DF8E-CE63-44FC-ACF9-355AB9343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ld 1998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F5D6-0C55-4F16-B18A-C0EBC67C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3929-7681-4B35-97AE-11C4F7FBF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6680-A3A6-4817-B213-83762C0B3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9A50-A520-4956-8743-2EA0A0773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F88A-CD91-443B-950D-F505FA1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4F6E-5D08-4F7B-9567-1E5814C4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33BC-D381-4AC0-AFF6-050DD49BA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CD6-D620-4BDC-AA3A-528EF430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130D-38C9-4AFD-A8D3-3420CA92D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F2D8-F57C-4EF5-85CA-5E27F5A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B723-843C-4FB5-894D-DDF78F95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421-43B4-407A-914E-46FDEBFB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8E64-1CB3-40FB-8BC3-715B84CA1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r-project.org/" TargetMode="External"/><Relationship Id="rId2" Type="http://schemas.openxmlformats.org/officeDocument/2006/relationships/hyperlink" Target="http://cran.r-project.org/" TargetMode="External"/><Relationship Id="rId3" Type="http://schemas.openxmlformats.org/officeDocument/2006/relationships/hyperlink" Target="http://cran.r-project.org/doc/FAQ/R-FAQ.html" TargetMode="External"/><Relationship Id="rId4" Type="http://schemas.openxmlformats.org/officeDocument/2006/relationships/hyperlink" Target="http://cran.r-project.org/manuals.html" TargetMode="Externa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09680" y="5521320"/>
            <a:ext cx="6858000" cy="118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30040" y="5030640"/>
            <a:ext cx="1675080" cy="16750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676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Arial"/>
              </a:rPr>
              <a:t>An Introduction to </a:t>
            </a:r>
            <a:endParaRPr b="1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915240" y="787320"/>
            <a:ext cx="177156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ering data into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“c” comm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or concatenate dat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can be character or nume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1 &lt;- c(12, 5, 6, 8, 2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2 &lt;- c("Yellow perch", "Largemouth bass", "Rainbow trout", "Lake whitefish“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ering data into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ct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s of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eq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284560" y="3839400"/>
            <a:ext cx="394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ars&lt;-c(1990: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272680" y="56847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seq(0, 200, length=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285280" y="4724280"/>
            <a:ext cx="326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&lt;-seq(0,100,1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ering data into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atri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35120" y="396144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1&lt;-array(1:20, dim=c(4,5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37280" y="5211000"/>
            <a:ext cx="628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2&lt;-matrix(1:20, ncol=5, nrow=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tering data into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r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vectors as columns or 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b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bin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3160" y="4723560"/>
            <a:ext cx="44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1 &lt;- cbind(v1, v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920" y="556164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2 &lt;- rbind(v1, v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r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ata frame is a list of variables of the same length with unique row na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llection of variables which share many of the properties of matrices and of 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as the fundamental data structure by most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deling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r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t vectors or matrices into a data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data.fram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1&lt;-data.frame(v1, v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2&lt;-data.frame(matrix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ata fram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ng data frames in spreadsheet-like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d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2&lt;-edit(d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’s go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enter some vectors, arrays, and data fr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: QFC R short course R object types_1_vectors and arrays.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cing variables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search pa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variables in a data frame are used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 data frame name followed by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ign and then the variable name is requ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1&lt;-df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&g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lacing variables in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search path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ly,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attac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can b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tach(d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1 &lt;- v3 &g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ch(df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b resour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ome pag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r-project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chive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cran.r-project.org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AQ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asked questions ab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cran.r-project.org/doc/FAQ/R-FAQ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uals: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cran.r-project.org/manuals.ht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cessing data from an array, vector, or data fram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crip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used to extract data from object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cripts appear in square brackets and reference rows and columns, respectiv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bscrip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3809880" y="1981080"/>
          <a:ext cx="5181840" cy="4525920"/>
        </p:xfrm>
        <a:graphic>
          <a:graphicData uri="http://schemas.openxmlformats.org/drawingml/2006/table">
            <a:tbl>
              <a:tblPr/>
              <a:tblGrid>
                <a:gridCol w="914400"/>
                <a:gridCol w="914400"/>
                <a:gridCol w="990720"/>
                <a:gridCol w="685800"/>
                <a:gridCol w="838080"/>
                <a:gridCol w="838440"/>
              </a:tblGrid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6019920" y="13716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f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4280" y="16765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f[3,5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105760" y="3657600"/>
            <a:ext cx="914400" cy="6094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46120" y="271152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f[,3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2014560"/>
            <a:ext cx="838440" cy="446256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72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f[5,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800600"/>
            <a:ext cx="5181840" cy="60948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49975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f[2:5,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09880" y="3124080"/>
            <a:ext cx="5334120" cy="2286000"/>
          </a:xfrm>
          <a:prstGeom prst="rect">
            <a:avLst/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eries in R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mon logical argu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457200" y="1447920"/>
          <a:ext cx="8077320" cy="4973400"/>
        </p:xfrm>
        <a:graphic>
          <a:graphicData uri="http://schemas.openxmlformats.org/drawingml/2006/table">
            <a:tbl>
              <a:tblPr/>
              <a:tblGrid>
                <a:gridCol w="1295280"/>
                <a:gridCol w="6782040"/>
              </a:tblGrid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gt;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er th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&lt;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s than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2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=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als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!x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! Indicates logical negation (not), not x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81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&amp; y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l and, x and y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x | y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gical or, x or y</a:t>
                      </a:r>
                      <a:endParaRPr b="0" lang="en-US" sz="3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ries in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 of logical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1&lt;-df1$v3 &gt;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1[query1,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2&lt;-df1$v3 &gt; 20 &amp; df1$v4 &lt; 30 (&amp;=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ry2&lt;-df1$v3 &gt; 20 | df1$v4 &lt; 30 (| = 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eries in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: QFC R short course R object types_2_query arrays data frames.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orting data from Excel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or other database management program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rt as text file (.t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 spaces in variable and character names, use a period (e.g., fish.weight, not fish weight and Round.lake not Round lak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 missing data with “N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 Excel example (MI STORET data RAW.x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ing data from Exc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ead.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.frame.name &lt;- read.table(“file path”, na.strings=”NA”, header=TR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f1&lt;-read.table("C:\\R\\Example\\datafile1.txt", na.strings="NA", header=TR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ot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use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\\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in path na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mporting data from Exce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your working directory is set, R will automatically look for the data text file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the read.table syntax can be simplified by excluding the file path n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.table(“data.txt”, na.strings=“NA”, header=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porting data from R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write.tabl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.table(df, file = "Path Name\\file_name.csv", sep = ",", col.names = 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 enviro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mmand window (console) or Graphical User Interface (GU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for entering commands, data manipulations, analyses, grap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results of analyses, queries, etc. are written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ggle through previous commands by using the up and down arrow k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R fun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s many built-in functions and many more that can be downloaded from CRAN sites (Comprehensiv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chive Networ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-defined functions can also be cre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 base packag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R fun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mon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nam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btain variable names of a 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ummary of all variables in a 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ea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M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var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Vari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standard dev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FC R short course R functions_1.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R functions,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ead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int first few rows of data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appl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pply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olumn-wise summ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level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btain levels of a character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produce summarie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R functions, co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pply(variable, list(group1, group2), mea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function to each element in ragged arr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pply(variable, FUN=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es a function to elements in a li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(data, INDICES, FU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 to R loop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n 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(i in 1:n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*Excel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FC R short course R functions_2.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User-defined fun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 &lt;- function(x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FC R short course R user defined functions_3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2 (Part 1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functions part 2: subset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ubse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&lt;- subset(data frame, crite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1&lt;-subset(fish, no.fish &gt; 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2&lt;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(fish, no.fish&gt;50 &amp; position=="Below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 functions part 2: subset dat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pecific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3&lt;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(fish, select=c(stream, site, no.fish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QFC R short course R subset_4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 enviro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working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rised primarily of variables, datasets,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2 (Part 2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basic graph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http://addictedtor.free.fr/graphique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0938" t="28124" r="48440" b="18753"/>
          <a:stretch/>
        </p:blipFill>
        <p:spPr>
          <a:xfrm>
            <a:off x="76320" y="2286000"/>
            <a:ext cx="4495680" cy="44100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rcRect l="10155" t="31250" r="46875" b="22917"/>
          <a:stretch/>
        </p:blipFill>
        <p:spPr>
          <a:xfrm>
            <a:off x="4191120" y="2209680"/>
            <a:ext cx="49528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21878" r="39064" b="39583"/>
          <a:stretch/>
        </p:blipFill>
        <p:spPr>
          <a:xfrm>
            <a:off x="0" y="1676520"/>
            <a:ext cx="9144000" cy="43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Graphing basic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otting 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High-level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Create a new plot on the graphics de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Low-level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dd more information to an already existing plot, such as extra points, lines, and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eractive graphing 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llow you to interactively add information to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high-level function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generic function that produces a type of plot that is dependent on the type of the first argu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is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s a histogram of frequ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arpl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s a histogram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boxpl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s a box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i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reates a scatter plo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high-level function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(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(x,y) : scatter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(y~x) : scatter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(group, x) : box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high-level functions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xplot(x~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(z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rs(df1[,3:7]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mon high-level functio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FC R course Graphing Basics_1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ND OF DAY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 environ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ext file containing commands that you would enter on the command line of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place a comment in a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ript, use a hash mark (#) at the beginning of the li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wer-level graphing fun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0" t="0" r="2500" b="0"/>
          <a:stretch/>
        </p:blipFill>
        <p:spPr>
          <a:xfrm>
            <a:off x="152280" y="820800"/>
            <a:ext cx="891540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wer-level graphing fun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xis scales and lab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lim=c(0,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lim=c(0,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lab=“tex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lab=“tex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=“tex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x= &lt;1 will make font smaller than default, &gt;1 will increase fon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wer-level graphing fun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5953" t="9615" r="2094" b="11750"/>
          <a:stretch/>
        </p:blipFill>
        <p:spPr>
          <a:xfrm>
            <a:off x="0" y="1447920"/>
            <a:ext cx="9144000" cy="50752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590920" y="120960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mbol shapes and col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wer-level graphing fun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dding lines and text, and po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ine(a,b) a= intercept, b = sl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line(h=mean(x, na.rm=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ex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,y, “text”,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o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(x,y,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wer-level graphing fun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Scripts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FC R course Graphing Basics_2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FC R course Graphing Basics_3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statistical analy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vides many functions for statistical analy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a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va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at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yesi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roduction to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istical analys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ve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lation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(df1[,2:6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-tests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.tes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.test(y~grou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FC R short course correlations and t-test.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model structure in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28195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response variable ~ predictor variable(s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ymbols in model statements are used differently compared to arithmetic expression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93680" y="1447920"/>
          <a:ext cx="8721720" cy="5110200"/>
        </p:xfrm>
        <a:graphic>
          <a:graphicData uri="http://schemas.openxmlformats.org/drawingml/2006/table">
            <a:tbl>
              <a:tblPr/>
              <a:tblGrid>
                <a:gridCol w="1246320"/>
                <a:gridCol w="7475400"/>
              </a:tblGrid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inclusion of a predictor variable, not add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the deletion of a predictor variable, not subtrac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*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inclusion of a predictor variable and an interaction, not multipli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nesting of predictor variables, not divis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|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condition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icates an interaction (e.g., A:B is a two-way interaction between A and B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me tips for getting started in 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a new folder on your hard drive for your curr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set the working directory to that fol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ve the workspace with a descriptive name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 new script and save the script with a descriptive name and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ecifying models in R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near regression examp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143000" y="3048120"/>
                <a:ext cx="43434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5" name=""/>
          <p:cNvSpPr/>
          <p:nvPr/>
        </p:nvSpPr>
        <p:spPr>
          <a:xfrm>
            <a:off x="6019920" y="3319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= 1, 2,…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15228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29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838080" y="2438280"/>
            <a:ext cx="7315200" cy="2176560"/>
            <a:chOff x="838080" y="2438280"/>
            <a:chExt cx="7315200" cy="2176560"/>
          </a:xfrm>
        </p:grpSpPr>
        <mc:AlternateContent>
          <mc:Choice xmlns:a14="http://schemas.microsoft.com/office/drawing/2010/main" Requires="a14">
            <p:sp>
              <p:nvSpPr>
                <p:cNvPr id="196" name=""/>
                <p:cNvSpPr txBox="1"/>
                <p:nvPr/>
              </p:nvSpPr>
              <p:spPr>
                <a:xfrm>
                  <a:off x="838080" y="2462040"/>
                  <a:ext cx="839880" cy="21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197" name=""/>
            <p:cNvSpPr/>
            <p:nvPr/>
          </p:nvSpPr>
          <p:spPr>
            <a:xfrm>
              <a:off x="1600200" y="32994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" name=""/>
                <p:cNvSpPr txBox="1"/>
                <p:nvPr/>
              </p:nvSpPr>
              <p:spPr>
                <a:xfrm>
                  <a:off x="1805040" y="3271680"/>
                  <a:ext cx="51120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286000" y="2462040"/>
                  <a:ext cx="690480" cy="21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0" name=""/>
            <p:cNvSpPr/>
            <p:nvPr/>
          </p:nvSpPr>
          <p:spPr>
            <a:xfrm>
              <a:off x="2820240" y="330084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3124080" y="3224160"/>
                  <a:ext cx="465120" cy="533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3595680" y="2438280"/>
                  <a:ext cx="779400" cy="2162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3" name=""/>
            <p:cNvSpPr/>
            <p:nvPr/>
          </p:nvSpPr>
          <p:spPr>
            <a:xfrm>
              <a:off x="4344120" y="3299400"/>
              <a:ext cx="444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4" name=""/>
                <p:cNvSpPr txBox="1"/>
                <p:nvPr/>
              </p:nvSpPr>
              <p:spPr>
                <a:xfrm>
                  <a:off x="4694400" y="2438280"/>
                  <a:ext cx="790560" cy="2176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205" name=""/>
            <p:cNvSpPr/>
            <p:nvPr/>
          </p:nvSpPr>
          <p:spPr>
            <a:xfrm>
              <a:off x="5389560" y="3299400"/>
              <a:ext cx="49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=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6" name=""/>
                <p:cNvSpPr txBox="1"/>
                <p:nvPr/>
              </p:nvSpPr>
              <p:spPr>
                <a:xfrm>
                  <a:off x="5794200" y="2462040"/>
                  <a:ext cx="1636920" cy="2133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/>
                                </m:mr>
                              </m: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</m:t>
                              </m:r>
                              <m:m>
                                <m:mr>
                                  <m:e/>
                                  <m:e/>
                                </m:mr>
                              </m:m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/>
                          </m:d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m>
                                <m:mr>
                                  <m:e/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</m:e>
                                </m:mr>
                              </m:m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7" name=""/>
                <p:cNvSpPr txBox="1"/>
                <p:nvPr/>
              </p:nvSpPr>
              <p:spPr>
                <a:xfrm>
                  <a:off x="7394400" y="2995560"/>
                  <a:ext cx="758880" cy="99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β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</m:e>
                            <m:e/>
                          </m:d>
                        </m:e>
                        <m:e/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8" name=""/>
          <p:cNvSpPr/>
          <p:nvPr/>
        </p:nvSpPr>
        <p:spPr>
          <a:xfrm flipV="1">
            <a:off x="5943600" y="4648320"/>
            <a:ext cx="53352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648320" y="56386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matrix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27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1905120" y="2819520"/>
                <a:ext cx="4876560" cy="120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T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609480" y="16765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solve for       and      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962520" y="1600200"/>
                <a:ext cx="73008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5486400" y="1600200"/>
                <a:ext cx="662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457200" y="4724280"/>
            <a:ext cx="83059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FC R short course simple linear regression example 1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linear regression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ith intercept and where x and y are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1+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nterce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0+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ression through the origin (no interce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A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ere A is a categorical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x + 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m(y~A*B) = lm(y~A+B+A: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imple linear regression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m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1&lt;-lm(length~weight, data=r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1&lt;-lm(log(length)~log(weight), data=re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diagnos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sidu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it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FC R short course simple linear regression example_2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 data for reg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1&lt;-lm(length ~ wgt, subset=hatchery=="DWOR", data=reg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ning models through a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FC R short course simple linear regression example_3.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nalysis of varianc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o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ical explanatory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mean values of multiple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va&lt;-aov(y~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FC short course ANOVA 1.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ng parameters is more tricky compared to linear regression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rative search procedure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ide starting values of para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rgence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cuting simple command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ssignment operat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&lt;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 &lt;-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the value of 5 to the variable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 &lt;- 2*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s the value of 2 times x (10 in this case) to the variable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 &lt;-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.circle &lt;- pi*r^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</a:rPr>
              <a:t>NO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R is case-sensitive (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≠ 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466560" y="5786280"/>
            <a:ext cx="1390680" cy="766800"/>
            <a:chOff x="466560" y="5786280"/>
            <a:chExt cx="1390680" cy="76680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847440" y="5786280"/>
              <a:ext cx="1009800" cy="76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66560" y="5938560"/>
              <a:ext cx="457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linear and nonlinear reg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nlinear regression models the user must specify the exact equation as part of the model stat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er must specify initial guesses as to the value of the parameters that are being estim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n Bertalanffy growth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838080" y="1752480"/>
                <a:ext cx="73152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37" name=""/>
          <p:cNvGrpSpPr/>
          <p:nvPr/>
        </p:nvGrpSpPr>
        <p:grpSpPr>
          <a:xfrm>
            <a:off x="533520" y="3124080"/>
            <a:ext cx="3733560" cy="609840"/>
            <a:chOff x="533520" y="3124080"/>
            <a:chExt cx="3733560" cy="609840"/>
          </a:xfrm>
        </p:grpSpPr>
        <mc:AlternateContent>
          <mc:Choice xmlns:a14="http://schemas.microsoft.com/office/drawing/2010/main" Requires="a14">
            <p:sp>
              <p:nvSpPr>
                <p:cNvPr id="238" name=""/>
                <p:cNvSpPr txBox="1"/>
                <p:nvPr/>
              </p:nvSpPr>
              <p:spPr>
                <a:xfrm>
                  <a:off x="533520" y="3124080"/>
                  <a:ext cx="482400" cy="609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t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39" name=""/>
            <p:cNvSpPr/>
            <p:nvPr/>
          </p:nvSpPr>
          <p:spPr>
            <a:xfrm>
              <a:off x="914400" y="3200400"/>
              <a:ext cx="335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length at age 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33520" y="3809880"/>
            <a:ext cx="7696080" cy="534600"/>
            <a:chOff x="533520" y="3809880"/>
            <a:chExt cx="7696080" cy="534600"/>
          </a:xfrm>
        </p:grpSpPr>
        <mc:AlternateContent>
          <mc:Choice xmlns:a14="http://schemas.microsoft.com/office/drawing/2010/main" Requires="a14">
            <p:sp>
              <p:nvSpPr>
                <p:cNvPr id="241" name=""/>
                <p:cNvSpPr txBox="1"/>
                <p:nvPr/>
              </p:nvSpPr>
              <p:spPr>
                <a:xfrm>
                  <a:off x="533520" y="3809880"/>
                  <a:ext cx="533160" cy="51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∞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2" name=""/>
            <p:cNvSpPr/>
            <p:nvPr/>
          </p:nvSpPr>
          <p:spPr>
            <a:xfrm>
              <a:off x="1066680" y="382392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is the asymptotic average maximum length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56840" y="4495320"/>
            <a:ext cx="754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growth rate coefficient that determ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quickly the maximum size is attain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1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473040" y="5529240"/>
            <a:ext cx="7832880" cy="1024560"/>
            <a:chOff x="473040" y="5529240"/>
            <a:chExt cx="7832880" cy="1024560"/>
          </a:xfrm>
        </p:grpSpPr>
        <mc:AlternateContent>
          <mc:Choice xmlns:a14="http://schemas.microsoft.com/office/drawing/2010/main" Requires="a14">
            <p:sp>
              <p:nvSpPr>
                <p:cNvPr id="246" name=""/>
                <p:cNvSpPr txBox="1"/>
                <p:nvPr/>
              </p:nvSpPr>
              <p:spPr>
                <a:xfrm>
                  <a:off x="473040" y="5529240"/>
                  <a:ext cx="398520" cy="598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t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47" name=""/>
            <p:cNvSpPr/>
            <p:nvPr/>
          </p:nvSpPr>
          <p:spPr>
            <a:xfrm>
              <a:off x="838080" y="5606640"/>
              <a:ext cx="74678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is the hypothetical age which the species has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zero length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8545" r="2094" b="0"/>
          <a:stretch/>
        </p:blipFill>
        <p:spPr>
          <a:xfrm>
            <a:off x="152280" y="1371600"/>
            <a:ext cx="8915400" cy="5157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14400" y="1631880"/>
                <a:ext cx="380988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st-squares estimates of the parameters of a nonlinea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83059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nB1&lt;- nls(</a:t>
            </a:r>
            <a:r>
              <a:rPr b="1" lang="en-US" sz="2800" spc="-1" strike="noStrike">
                <a:solidFill>
                  <a:srgbClr val="3333ff"/>
                </a:solidFill>
                <a:latin typeface="Arial"/>
              </a:rPr>
              <a:t>length~Linf*(1-exp(-k*(age-to))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=length.age,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start=list(Linf=1000,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k=0.05, t</a:t>
            </a:r>
            <a:r>
              <a:rPr b="1" lang="en-US" sz="2800" spc="-1" strike="noStrike" baseline="-25000">
                <a:solidFill>
                  <a:srgbClr val="ff9900"/>
                </a:solidFill>
                <a:latin typeface="Arial"/>
              </a:rPr>
              <a:t>0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=-2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2057400" y="1438200"/>
                <a:ext cx="487692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∞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k</m:t>
                            </m:r>
                            <m:r>
                              <m:t xml:space="preserve">[</m:t>
                            </m:r>
                            <m:r>
                              <m:t xml:space="preserve">t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]</m:t>
                            </m:r>
                          </m:sup>
                        </m:sSup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erro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ng fitted li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a sequence of numbers that cover the range of the x-ax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te predicted values for the sequence of x-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origin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lay predicted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nlinear regression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3520" y="1828800"/>
            <a:ext cx="8305560" cy="165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rip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FC R course Von Bertalanffy Nonlinear regression.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5105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ercise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 object typ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Vectors and array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one-dimensional array, all elements of a vector must be of the same type (numerical, character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atri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 two-dimensional array with rows and colum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rr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as a matrix, but of arbitrary dim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7:09:13Z</dcterms:created>
  <dc:creator>wagnerty</dc:creator>
  <dc:description/>
  <dc:language>en-US</dc:language>
  <cp:lastModifiedBy>wagnerty</cp:lastModifiedBy>
  <dcterms:modified xsi:type="dcterms:W3CDTF">2007-05-16T16:41:47Z</dcterms:modified>
  <cp:revision>191</cp:revision>
  <dc:subject/>
  <dc:title>An Introduction to R</dc:title>
</cp:coreProperties>
</file>